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0D36-A3F2-4139-8385-76B9D5A37726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DC16-4C6C-4C48-A669-3290E3681EC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E396-DBE7-461E-8405-D969E72733F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oviding access to your dat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Access mechanism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99568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R. Downs, Ph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cioeconomic Data and Applications Center (SEDA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enter for International Earth Science Information Network (CIESI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umbia Univers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154400" y="7658280"/>
            <a:ext cx="2500560" cy="1752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4"/>
          <a:stretch/>
        </p:blipFill>
        <p:spPr>
          <a:xfrm>
            <a:off x="6692760" y="7924680"/>
            <a:ext cx="1125720" cy="12049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4" descr=""/>
          <p:cNvPicPr/>
          <p:nvPr/>
        </p:nvPicPr>
        <p:blipFill>
          <a:blip r:embed="rId5"/>
          <a:stretch/>
        </p:blipFill>
        <p:spPr>
          <a:xfrm>
            <a:off x="11455560" y="9186840"/>
            <a:ext cx="1155600" cy="406440"/>
          </a:xfrm>
          <a:prstGeom prst="rect">
            <a:avLst/>
          </a:prstGeom>
          <a:ln w="0">
            <a:noFill/>
          </a:ln>
        </p:spPr>
      </p:pic>
      <p:sp>
        <p:nvSpPr>
          <p:cNvPr id="747" name="TextBox 9"/>
          <p:cNvSpPr/>
          <p:nvPr/>
        </p:nvSpPr>
        <p:spPr>
          <a:xfrm>
            <a:off x="8340120" y="9291600"/>
            <a:ext cx="25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opyright 2012 Robert R. Downs.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re are choices for access mechanisms that can foster access to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selection of access mechanisms should be based on the needs of the user community and the opportunities that are availabl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lternatives should be considered when selecting among available opportunities for providing access to your 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hoices among access mechanisms can influence how your data are managed, discovered, accessed, and used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can have continuing value if they are available for others to us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mechanisms can enable data discovery, accessibility, and usability by the intended community of us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availability of data services and ongoing support can enable new uses of the data by targeted communities, by new communities, and by future communities of us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that continue to be used can be recognized as having future value and as being worthy of continuing stewardshi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ccess Mechanism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provid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ingle or multiple distributors (version control, commitment, cited source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ducer provides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Producer’s website, project website, blog, Email, portable medi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stributor provides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or’s website: organized by collections, projects, or producer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e access to packaged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ata package includes documentation (any information users need to know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op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Free or fee, discovery, user capabilities, user services (help), registration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ong-term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rganizational commitment, infrastructure, continuing management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ptions for enabling acces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209680"/>
            <a:ext cx="11861640" cy="668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atalo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scribed within searchable catalogs that are relevant to user commun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scriptions provide sufficient information to inform usage decisio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llec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any datasets may be accessible through a single collect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lection may include resources for a topic or for other purpos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set webpage (data page, splash page, landing page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Page provides access to data and contextual informat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ntains dataset title, metadata, related resources, recommended citat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rvi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atabase, gazetteer, linked data, search, intuitive (smart) interfac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eb Coverage Services (WCS), Web Map Services (WMS), Web Processing Services (WPS), Web Feature Services (WFS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rder system for delivery on portable medi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onsiderations for access mechanism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057040"/>
            <a:ext cx="1186164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nvisioned users and us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Sites for research (disciplinary, interdisciplinary), education, planning, policy-making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munity expect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Download, analysis or data integration tools, reference services (help desk, FAQ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ffiliations (organizational, disciplinary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Government clearinghouse, institutional repository, disciplinary archive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sts for deposit, maintenance, or acces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Free deposit, free access, deposit fees, access fees, subscription fee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overy opportunit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Inclusion in catalogs, metadata harvesting, search engine optimization, 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acilitating registration, rights, or restric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Capabilities to require registration, respect rights, or enforce restriction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xpertise and resource availability (current and long-term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Sustainable organization and infrastructure to foster ongoing development and acces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se and impact measur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Download counts, page visits by domain or country,  published uses, usage in spotlight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ercivall, G., Ménard, L., Chung, L., Nativi, S., and Pearlman, J. (2011). Geo-processing in cyberinfrastructure: making the web an easy to use geospatial computational platform. 34th International Symposium on Remote Sensing of Environment, Sydney, Australia. Available online at http://hal.archives-ouvertes.fr/hal-00608573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GEOSS AIP-2 Demonstration. Open Geospatial Consortium, Inc. Available online at http://www.ogcnetwork.net/pub/ogcnetwork/GEOSS/AIP2/index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Tracking data usa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Metadata for discove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etermining your audien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roadening your user communit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ptions for archiv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Righ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Robert R Downs</dc:creator>
  <dc:description/>
  <dc:language>en-US</dc:language>
  <cp:lastModifiedBy>Robert R Downs</cp:lastModifiedBy>
  <dcterms:modified xsi:type="dcterms:W3CDTF">2012-03-06T17:57:51Z</dcterms:modified>
  <cp:revision>95</cp:revision>
  <dc:subject/>
  <dc:title>ESIP Federation 101</dc:title>
</cp:coreProperties>
</file>